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950-9EBE-4FB3-8347-8C087559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412-3244-4410-A03C-F7280154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C8D-374C-4217-AFBF-589DE6C7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4C2-19EA-4EDC-9360-F387DA32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148-4257-4380-873C-E947CBF5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049-4295-423C-A452-D58B19234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226-51D0-4FEA-A819-AEDAC5EF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5C5-3311-423D-A23C-E88683A8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7B14-FC4A-48F9-BBC8-7257C6E38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61C5-0F12-451F-82B3-7B3E7F98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D3C-4FAC-4B70-B3AB-AE37C331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B6A9-1C79-4F02-B8AF-AEC3C669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591-5F2B-458F-BEA9-925A1321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03D8-3299-4729-96BE-3962EDA9BD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AA63-0DEE-483D-A2B9-E314B165E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4A24-7A47-47B4-AA7C-7587EA1FA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3A7F-B3BA-44FC-89DD-3F6ABD6F78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6775-EB4E-430C-A64F-82CC68EB5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79F0-0F90-429C-A863-865FBE921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9BEA-860E-4533-B937-984ACDA7B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E4F5-D6B5-4E59-AD38-4F169346C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5C62-7617-4F61-86FC-2D234414B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3132-E43E-4CD5-8F6A-55D81792A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B129-5853-4E2A-AA50-429422E752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29EA-28D9-4535-9ECF-D05FE37A3F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FB409-C1CE-4273-A881-0FDC8DDD6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F748-71D9-4C66-949C-8068E507FB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7BFD-8530-445F-BC5E-CB589099E8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57E87-BF06-4DA3-8982-9F11521DBF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87DED-00D0-40BE-A031-8EB26F2FC6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0B886-5443-4FA8-B3E9-2D809E2EE1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4BF27-967C-4CB4-9DD4-290EAE83DF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E22F-5007-4007-B8ED-780B12CD24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F06E-C1DE-49B1-B8D7-9AED2042A3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F1138-B868-4A50-847E-A3E3DD7470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A2F0B-F554-49D4-B174-8F2BB7301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D7CA-FBED-451D-AD84-34361FDC4F4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4B58-F2F9-46F2-BAF8-38C32103E6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F3D9-D623-4E87-B13C-6F73C7AE0B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7DD7-16DE-4DF7-A39A-8BFA184738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BD18-E71F-4318-B50D-019F156427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E4FB-24EC-437A-966C-C1F519FA89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31193-0506-43CB-8DF8-05ED3E0FAB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4D643-09E6-4EB6-AA6B-C1F431CB317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BB3A1-C87C-4D5B-AD38-9306663010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0C15-0965-45E7-9630-61FE8D500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EF024-73DF-4BB1-94A5-ECBC68AE8A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DCE5-CEFF-4259-8964-91AB914A6B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8B2A8-F01C-4FEC-B449-18318488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3D10F2E-DB0E-457F-BCA5-D70F5A547AC4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03BDBA2-3C81-48CB-BD6F-12C17368A683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D29DDE8-8260-412D-A0D8-93F36AFE7DDE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2160C28-84D8-4610-ABF8-BF187F5B50C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E02F5A3-A257-43CD-AA22-B2C69A70A92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Applying Computer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3191"/>
                </a:solidFill>
                <a:latin typeface="Arial"/>
              </a:rPr>
              <a:t>5 Steps of Information Processing</a:t>
            </a:r>
            <a:endParaRPr b="0" lang="en-US" sz="39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81" name="Content Placeholder 4" descr="ScreenShot013.png"/>
          <p:cNvPicPr/>
          <p:nvPr/>
        </p:nvPicPr>
        <p:blipFill>
          <a:blip r:embed="rId1"/>
          <a:stretch/>
        </p:blipFill>
        <p:spPr>
          <a:xfrm>
            <a:off x="2058840" y="1600200"/>
            <a:ext cx="5559480" cy="4525920"/>
          </a:xfrm>
          <a:prstGeom prst="rect">
            <a:avLst/>
          </a:prstGeom>
          <a:ln w="0">
            <a:noFill/>
          </a:ln>
        </p:spPr>
      </p:pic>
      <p:sp>
        <p:nvSpPr>
          <p:cNvPr id="282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45195E76-BD25-48FA-B1DB-75ADF651A20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9120" y="1514520"/>
            <a:ext cx="8167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utting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screen, keyboard, electronic pen, speech headset, scanner, camer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or manipulating data using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umbers, sort lists, alte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etting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text message, print report, view photos on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FF26EFC-ED5A-4505-B7E3-18CE14DFECD5}" type="slidenum">
              <a:rPr b="1" lang="en-US" sz="12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information with people who wa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a blog, build website, use phone to send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a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aving data for late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hard drive (C:\\), flash drive, Internet, Network (Z:\\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network is Leaddog. You save to your folder on the network (Your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3F4B799-90EA-4311-AEEC-F8E8A4799E4A}" type="slidenum">
              <a:rPr b="1" lang="en-US" sz="12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ying Computer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5720" y="1495440"/>
            <a:ext cx="78897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achine that follows a set of instructions and makes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our world be like without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can:  guide telescopes, control lighting, air conditioning, security systems, make calls, store phone numbers, sent text messages, share music &amp; video, play games, run programs, animate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140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D37EFE8-FF79-45D6-BF4C-AEED67F7661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izing up Hard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34880" y="1509480"/>
            <a:ext cx="836136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 parts you can touch with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process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small circuit board inside a computer that controls all the work a computer does (digi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t important parts! Brains o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s that calculate with 0s &amp; 1s called binary cod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1011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ACB70F5D-5C96-43E6-9200-48FA4A8719B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3191"/>
                </a:solidFill>
                <a:latin typeface="Arial"/>
                <a:ea typeface="Arial"/>
              </a:rPr>
              <a:t>DigiTools</a:t>
            </a:r>
            <a:endParaRPr b="0" lang="en-US" sz="36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for "digital communication tools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uters of all types are called DigiTo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422360" y="252360"/>
            <a:ext cx="6561000" cy="449280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3AEF201B-F8FC-4016-A0D3-2CDF35D046D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ersonal Comput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65" name="Content Placeholder 6" descr="ScreenShot011.png"/>
          <p:cNvPicPr/>
          <p:nvPr/>
        </p:nvPicPr>
        <p:blipFill>
          <a:blip r:embed="rId1"/>
          <a:stretch/>
        </p:blipFill>
        <p:spPr>
          <a:xfrm>
            <a:off x="1320840" y="3825720"/>
            <a:ext cx="6676920" cy="2535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28800" y="1498680"/>
            <a:ext cx="775800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Computer (PC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signed for individual use – multimedia desktop, laptop,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 –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B33C42BF-6CE6-431B-BEBC-657D764C077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eriphera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phera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vices that work with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rs, digital tablets, scanners, and headsets (speech re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&amp; Peripherals are digital communication tools – DigiToo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digital devices, electronic devices, and consumer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93819F0-430F-41D8-B47A-22861982DC6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28800" y="276120"/>
            <a:ext cx="769608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200" y="1712880"/>
            <a:ext cx="833148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computers need to work properly. Thre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(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ommunication with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interaction with u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Windows Vista, Windows X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3EDC550F-CCC1-4D78-8AF0-987EBC1273B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ntinu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omplete a specific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installed on a local computer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, Excel,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s you complete specific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ver the Internet inside a web brow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gle ga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57723111-0162-41D0-A78C-AD676F4440F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Process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with computers using a 5-ste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data into forms we can use &amp;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ords, pictures,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4C1FD84-B109-418B-BFB9-EE232B78865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2-24T05:34:31Z</dcterms:modified>
  <cp:revision>73</cp:revision>
  <dc:subject/>
  <dc:title>Slide 1</dc:title>
</cp:coreProperties>
</file>